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97D-AF84-4EEB-B9D5-7D9381E2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F9D-258C-4BAF-81EA-A4156FD9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027-543A-4549-9E24-A2FFFA81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370-DE36-412B-8277-5379C4C2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7C8D-4280-4A3D-9C7C-868F38FE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4C6-B58D-43D3-8037-867A05D8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4E80-418F-49B6-A4A8-8B37C775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1D70-495E-4DA3-9FCF-F91AE7C3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03B-072D-4C72-9874-6A48C48D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56E-0BE8-48D7-8287-50BC434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5186-A0E4-4C3C-A3AA-23E02FF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F98-B954-4428-B214-66322A27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4F2A-D639-41DB-A80E-16FD29E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5AA1-8BC8-4E84-9A09-F219D70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46C1-18DE-4002-8FEB-4D573FF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BAE-9B5D-453D-B88B-EA6EFD92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BFD-8766-4496-8278-8377C3BB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409-42D6-4AE1-918C-2AC9B23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4E8-9AA3-41C7-A401-4F85460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017-5A6A-49C6-9EFD-55DCACE4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560-29A0-42F8-A8F9-081E3A7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32F-C89B-42EB-821F-6F4551E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754-64E9-4EA9-BA17-31AF64A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993-CFD6-41FB-BCB1-841A539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85b3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85b3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22E-C66A-42AC-AF40-87CB84D864FF}" type="slidenum"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3FE9-A06F-4C9F-9188-8AC3A8DE5B96}" type="slidenum"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b3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b3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5b3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b3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5b3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5b3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Specie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dapted to their environmen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Specie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Each distinct kind of living thing is called a </a:t>
            </a:r>
            <a:r>
              <a:rPr b="1" lang="en-US" sz="3200" spc="-1" strike="noStrike" u="sng">
                <a:solidFill>
                  <a:srgbClr val="85b34d"/>
                </a:solidFill>
                <a:uFillTx/>
                <a:latin typeface="Arial"/>
              </a:rPr>
              <a:t>species</a:t>
            </a: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 species is a group of living things that can breed together and produce offspring which can also breed together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971800" y="579132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733920" y="5715000"/>
            <a:ext cx="761760" cy="75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648320" y="5867280"/>
            <a:ext cx="68580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Every species on Earth is adapted to live in its particular environment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pecies have certain structures, skills, and abilities that enable them to survive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Adaptation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kil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bility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7400" y="3276720"/>
            <a:ext cx="1600200" cy="152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362320" y="4952880"/>
            <a:ext cx="2286000" cy="155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34120" y="2057400"/>
            <a:ext cx="1181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95680" y="3505320"/>
            <a:ext cx="1114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ly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0" y="5105520"/>
            <a:ext cx="2581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ving for f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Black"/>
              </a:rPr>
              <a:t>Do this…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64231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35:05Z</dcterms:created>
  <dc:creator>nbdoe</dc:creator>
  <dc:description/>
  <dc:language>en-US</dc:language>
  <cp:lastModifiedBy>Teacher</cp:lastModifiedBy>
  <dcterms:modified xsi:type="dcterms:W3CDTF">2008-09-25T15:33:39Z</dcterms:modified>
  <cp:revision>3</cp:revision>
  <dc:subject/>
  <dc:title>Species</dc:title>
</cp:coreProperties>
</file>